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78E-D597-4D08-BB0A-0A07AA21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650-06C9-4225-8214-87B60855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7B2-B1BA-4959-845B-958AEB63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A3C-B829-4B80-87B3-A385AF91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B2C7-735F-4BFA-AFBE-D54A7736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0475-0FDC-4D6E-A270-576B85BB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43BA-180E-4F97-A164-9E26869B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881C-C4C2-400A-B479-E60147B1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C893-C2F1-4732-8BAB-7E56FB74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0A8A-7879-41E7-B823-9B992B24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90C4-B2D8-476E-A0E5-E166F696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EC0-AC90-4398-BBB4-935979BE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E564-74DA-4265-92A4-47230B4E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B392-3A2C-4263-A7B7-7C37E4AB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CC21-5627-464A-9E8B-9CBC7EEC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B12D-F271-48E9-9EB7-225BC133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267F-3550-4307-94B6-2EE9C722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27C-1F28-4FCB-9E12-629D84EF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9ED-1F6C-4D4A-A178-1CBC93E8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700-7626-4557-BAF5-13F54281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412-A09D-4689-8233-30735FAB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577-7121-4AC2-85EB-11BA93F6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39D-27A7-4CB1-A153-5018E78C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3CB-CA9D-4AF1-88E1-1DCF00B0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1201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51202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1203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1204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1205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51206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51207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51208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41C7-9278-42DD-9D1B-297422353C5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Picture 1" descr="new transparent feb2021 "/>
          <p:cNvPicPr/>
          <p:nvPr/>
        </p:nvPicPr>
        <p:blipFill>
          <a:blip r:embed="rId2"/>
          <a:stretch/>
        </p:blipFill>
        <p:spPr>
          <a:xfrm>
            <a:off x="8172360" y="6093000"/>
            <a:ext cx="774720" cy="64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2225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Freeform 52226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2227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2228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52229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2230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2231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2232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FAB1-E308-475C-A385-7B4F391E16DE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honics Train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ikolas J.Cakeb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Overview and ai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Text Placeholder 11266" descr=""/>
          <p:cNvPicPr/>
          <p:nvPr/>
        </p:nvPicPr>
        <p:blipFill>
          <a:blip r:embed="rId1"/>
          <a:stretch/>
        </p:blipFill>
        <p:spPr>
          <a:xfrm>
            <a:off x="447840" y="1542960"/>
            <a:ext cx="82483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solidFill>
            <a:srgbClr val="5b5b89"/>
          </a:solidFill>
          <a:ln w="12600">
            <a:solidFill>
              <a:srgbClr val="414163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In the beginning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Text Placeholder 16386" descr=""/>
          <p:cNvPicPr/>
          <p:nvPr/>
        </p:nvPicPr>
        <p:blipFill>
          <a:blip r:embed="rId1"/>
          <a:stretch/>
        </p:blipFill>
        <p:spPr>
          <a:xfrm>
            <a:off x="447840" y="1258920"/>
            <a:ext cx="824832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Short vowel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is my nightmare.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         e               i           o            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         o               a           u          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           u               e          i          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What ees my name? My name ees Neeeek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:( :*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Games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U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 listening gam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run to the right card,hit the card teacher says,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nd the vowels as a tea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tar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aring the sound is very important and will help them later when they fully recognise the letter/sound.  Later when they can recognise you can add words to the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6480">
            <a:solidFill>
              <a:srgbClr val="5b5b8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CvC</a:t>
            </a: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 vowel word</a:t>
            </a: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Text Placeholder 55298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6048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Final consonant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Text Placeholder 54274" descr=""/>
          <p:cNvPicPr/>
          <p:nvPr/>
        </p:nvPicPr>
        <p:blipFill>
          <a:blip r:embed="rId1"/>
          <a:stretch/>
        </p:blipFill>
        <p:spPr>
          <a:xfrm>
            <a:off x="457200" y="1217520"/>
            <a:ext cx="8229600" cy="545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5b5b89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Arial"/>
              </a:rPr>
              <a:t>Final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Text Placeholder 19458" descr=""/>
          <p:cNvPicPr/>
          <p:nvPr/>
        </p:nvPicPr>
        <p:blipFill>
          <a:blip r:embed="rId1"/>
          <a:stretch/>
        </p:blipFill>
        <p:spPr>
          <a:xfrm>
            <a:off x="457200" y="140652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6480">
            <a:solidFill>
              <a:srgbClr val="5b5b8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objecti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We don’t need the kids to be able to understand every word or know the meaning, we just want them to have confidence to try to read and pronou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the course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 teach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should have a clearer understanding of how each letter sounds and how they can use them to say simple 2,3 or 4 letter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y the demo we want them to be able to identify and create the right combination of letters  to make the sounds suggested to them.. I say     “h-o-t” and they can find those letters and put them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Demo pl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is is how I would construct a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basic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onics de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(actually most phonics de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1) Intros- My name is A-a-A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 feel H-h-Hap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2) Warm up- Alphabet board relay 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3) S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4) Dr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5) Team sort the sounds game(find vowel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6) Team words under sounds on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7) Team arrange the alphabet cards on floor in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8) Students in pairs come out and make words from sounds teacher s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6:30:00Z</dcterms:created>
  <dc:creator>微软中国</dc:creator>
  <dc:description/>
  <dc:language>en-US</dc:language>
  <cp:lastModifiedBy>firea</cp:lastModifiedBy>
  <dcterms:modified xsi:type="dcterms:W3CDTF">2021-02-24T14:09:35Z</dcterms:modified>
  <cp:revision>48</cp:revision>
  <dc:subject/>
  <dc:title>New Phonics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984</vt:lpwstr>
  </property>
</Properties>
</file>